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982-E8A7-4461-B6A7-D1F78A4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A89-9F44-419D-AC62-24D943F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A12-4F38-4D2C-89B5-CE2C1C6E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111-541E-46EC-AB4A-B5C7C4D0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4EF9-F24A-4CC1-B214-0E494F4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321-C8A1-4FD2-99D0-FE04D93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1C6-42DD-46F5-8CF3-178B1153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8482-4156-49BC-A18E-42C7900C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DA21-90EB-4393-91B4-342CFDB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516A-E470-4BE7-BCEC-5C019823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BBF9-B18D-4AC1-B88B-6DB54ECC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2D5-050C-4B8B-8F63-9D991B9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11F-EA57-417A-82E7-19BF98A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028A-F87A-4996-B466-1EEF29B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FD2-BA52-44E9-AB65-A7C20747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1B95-E2EF-4218-BA5F-4AA14C45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B47E-06E2-4AC4-A382-962AADF1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15B-AB0D-43E1-828B-0E21928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F36-E669-48A2-8687-2ACC31A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5FF-13C7-45BB-827C-D01DF64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35F-C9C9-4AC7-8448-96CF57F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D75-D06A-41B4-BEAF-1231DC8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BCB-5C5C-4D17-AD92-FA3BC22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5C5-1238-44A3-A8EC-6CAE163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BC62-A52D-466E-9940-6EBC7D1777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023-59A7-4809-A658-FE1421A61F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lack Death which killed at least 38,000,000 people in forteenth century Europe and China slowed the worlds poplulation grow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lack Death, which killed at least 38 million people in fourteenth-century Europe and China, slowed the world’s population grow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reewrit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any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d a partner, it can NOT be someone you have worked with befor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Vocabulary squa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ten minut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y does Aunt Alexandra come to visit? How long is she sta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ow does she treat Calpurn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are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ildren’s reaction to the visit and her treatment of C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at is Aunt Alexandra’s major theory concerning human behavior? How does that compare to Atticus’s belief about human behavi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How does Atticus react to this belie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-In your noteboo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e a diary entry from either Scout, Jem or Atticus’s perspective on Aunt Alexandra’s visit and her effect on the household. (2 pa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write one from Calpurnia’s point of view. How would she feel having things change so dramatically? (2 pa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Study Voc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Quiz tomorrow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No reading homework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5:07:23Z</dcterms:created>
  <dc:creator>rebecca</dc:creator>
  <dc:description/>
  <dc:language>en-US</dc:language>
  <cp:lastModifiedBy>rebecca</cp:lastModifiedBy>
  <dcterms:modified xsi:type="dcterms:W3CDTF">2009-02-11T21:05:49Z</dcterms:modified>
  <cp:revision>2</cp:revision>
  <dc:subject/>
  <dc:title>DOL</dc:title>
</cp:coreProperties>
</file>